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E8B-BDC9-443C-B9F4-7E51C842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C1E-04BA-4086-AF45-5A5B29CB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BEB-489C-428B-9FA7-E9497A96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4EE-B040-4E1C-8C2A-FCE1A455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F3A9-648A-4AF7-84B5-AB5F4BC0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977F-6AAE-4133-8D5C-297EF985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F92A-A70E-4CA4-B8BD-085BF0B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A6B4-75A1-4A86-B603-C07A8375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7A15-CFFE-4BC2-8B25-F3C14A3C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CC46-8AE2-4705-8210-5DB3965E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51C-111A-4710-9497-56E5DE81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C07-50B3-48DB-938B-C64A2424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FC48-50A6-4D97-8B03-17CCEA8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D8BA-B56D-4446-8B7A-1C15463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2264-D165-444C-925C-6DDB8F9E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73EA-A866-4283-B291-B8850D5E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C092-8DF3-4795-A5FC-248B2C59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156-480A-4241-BAB7-3D8C7E0E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F6F-0F08-439D-96E3-55FE47DD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418-D2A6-48F0-93CE-79EFA7C3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32C-64EE-4495-AB80-EF2556CF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529-0442-460A-81AB-ABDD7332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FB2-E3C5-4591-9209-E89A3D84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A79-A2C3-40E5-B6F1-61088CA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72960" y="380880"/>
              <a:ext cx="8759880" cy="646452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738840" y="4114800"/>
              <a:ext cx="2032200" cy="2286000"/>
              <a:chOff x="6738840" y="4114800"/>
              <a:chExt cx="2032200" cy="228600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8636040" y="6248520"/>
                <a:ext cx="135000" cy="1522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364600" y="6248520"/>
                <a:ext cx="13644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094600" y="624852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823160" y="62485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551720" y="6248520"/>
                <a:ext cx="13644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281720" y="6248520"/>
                <a:ext cx="13500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010280" y="62485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738840" y="6248520"/>
                <a:ext cx="1368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636040" y="5943600"/>
                <a:ext cx="13500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636040" y="5638680"/>
                <a:ext cx="135000" cy="15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636040" y="53341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636040" y="5029200"/>
                <a:ext cx="13500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636040" y="4724280"/>
                <a:ext cx="13500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636040" y="44197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636040" y="411480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D3B9-5CA0-486B-9E74-91C9060EC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-20520"/>
            <a:ext cx="9137520" cy="6872040"/>
            <a:chOff x="0" y="-20520"/>
            <a:chExt cx="9137520" cy="6872040"/>
          </a:xfrm>
        </p:grpSpPr>
        <p:sp>
          <p:nvSpPr>
            <p:cNvPr id="61" name="Rectangle 3"/>
            <p:cNvSpPr/>
            <p:nvPr/>
          </p:nvSpPr>
          <p:spPr>
            <a:xfrm>
              <a:off x="0" y="-20520"/>
              <a:ext cx="9137520" cy="6872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372960" y="662040"/>
              <a:ext cx="8759880" cy="535464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6815160" y="3824280"/>
              <a:ext cx="2031840" cy="1943280"/>
              <a:chOff x="6815160" y="3824280"/>
              <a:chExt cx="2031840" cy="1943280"/>
            </a:xfrm>
          </p:grpSpPr>
          <p:sp>
            <p:nvSpPr>
              <p:cNvPr id="64" name="Rectangle 6"/>
              <p:cNvSpPr/>
              <p:nvPr/>
            </p:nvSpPr>
            <p:spPr>
              <a:xfrm>
                <a:off x="8712360" y="5637240"/>
                <a:ext cx="134640" cy="13032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7"/>
              <p:cNvSpPr/>
              <p:nvPr/>
            </p:nvSpPr>
            <p:spPr>
              <a:xfrm>
                <a:off x="8440560" y="5637240"/>
                <a:ext cx="13680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8"/>
              <p:cNvSpPr/>
              <p:nvPr/>
            </p:nvSpPr>
            <p:spPr>
              <a:xfrm>
                <a:off x="8170920" y="5637240"/>
                <a:ext cx="135000" cy="13032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9"/>
              <p:cNvSpPr/>
              <p:nvPr/>
            </p:nvSpPr>
            <p:spPr>
              <a:xfrm>
                <a:off x="7899480" y="5637240"/>
                <a:ext cx="135000" cy="130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10"/>
              <p:cNvSpPr/>
              <p:nvPr/>
            </p:nvSpPr>
            <p:spPr>
              <a:xfrm>
                <a:off x="7628040" y="5637240"/>
                <a:ext cx="1364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11"/>
              <p:cNvSpPr/>
              <p:nvPr/>
            </p:nvSpPr>
            <p:spPr>
              <a:xfrm>
                <a:off x="7358040" y="5637240"/>
                <a:ext cx="135000" cy="130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12"/>
              <p:cNvSpPr/>
              <p:nvPr/>
            </p:nvSpPr>
            <p:spPr>
              <a:xfrm>
                <a:off x="7086600" y="5637240"/>
                <a:ext cx="135000" cy="1303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13"/>
              <p:cNvSpPr/>
              <p:nvPr/>
            </p:nvSpPr>
            <p:spPr>
              <a:xfrm>
                <a:off x="6815160" y="5637240"/>
                <a:ext cx="1364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14"/>
              <p:cNvSpPr/>
              <p:nvPr/>
            </p:nvSpPr>
            <p:spPr>
              <a:xfrm>
                <a:off x="8712360" y="5378400"/>
                <a:ext cx="13464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15"/>
              <p:cNvSpPr/>
              <p:nvPr/>
            </p:nvSpPr>
            <p:spPr>
              <a:xfrm>
                <a:off x="8712360" y="5119560"/>
                <a:ext cx="134640" cy="128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8712360" y="4861080"/>
                <a:ext cx="134640" cy="128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17"/>
              <p:cNvSpPr/>
              <p:nvPr/>
            </p:nvSpPr>
            <p:spPr>
              <a:xfrm>
                <a:off x="8712360" y="4600440"/>
                <a:ext cx="1346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8712360" y="4341960"/>
                <a:ext cx="134640" cy="1299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8712360" y="4083120"/>
                <a:ext cx="134640" cy="1285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20"/>
              <p:cNvSpPr/>
              <p:nvPr/>
            </p:nvSpPr>
            <p:spPr>
              <a:xfrm>
                <a:off x="8712360" y="3824280"/>
                <a:ext cx="1346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21"/>
            <p:cNvGrpSpPr/>
            <p:nvPr/>
          </p:nvGrpSpPr>
          <p:grpSpPr>
            <a:xfrm>
              <a:off x="642960" y="966960"/>
              <a:ext cx="2031840" cy="2295360"/>
              <a:chOff x="642960" y="966960"/>
              <a:chExt cx="2031840" cy="2295360"/>
            </a:xfrm>
          </p:grpSpPr>
          <p:sp>
            <p:nvSpPr>
              <p:cNvPr id="80" name="Rectangle 22"/>
              <p:cNvSpPr/>
              <p:nvPr/>
            </p:nvSpPr>
            <p:spPr>
              <a:xfrm>
                <a:off x="642960" y="966960"/>
                <a:ext cx="135000" cy="15372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23"/>
              <p:cNvSpPr/>
              <p:nvPr/>
            </p:nvSpPr>
            <p:spPr>
              <a:xfrm>
                <a:off x="912960" y="966960"/>
                <a:ext cx="13644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24"/>
              <p:cNvSpPr/>
              <p:nvPr/>
            </p:nvSpPr>
            <p:spPr>
              <a:xfrm>
                <a:off x="1184400" y="966960"/>
                <a:ext cx="134640" cy="153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25"/>
              <p:cNvSpPr/>
              <p:nvPr/>
            </p:nvSpPr>
            <p:spPr>
              <a:xfrm>
                <a:off x="1455840" y="966960"/>
                <a:ext cx="135000" cy="1537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26"/>
              <p:cNvSpPr/>
              <p:nvPr/>
            </p:nvSpPr>
            <p:spPr>
              <a:xfrm>
                <a:off x="1725480" y="966960"/>
                <a:ext cx="136800" cy="1537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27"/>
              <p:cNvSpPr/>
              <p:nvPr/>
            </p:nvSpPr>
            <p:spPr>
              <a:xfrm>
                <a:off x="1996920" y="966960"/>
                <a:ext cx="13500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28"/>
              <p:cNvSpPr/>
              <p:nvPr/>
            </p:nvSpPr>
            <p:spPr>
              <a:xfrm>
                <a:off x="2268360" y="966960"/>
                <a:ext cx="135000" cy="15372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>
                <a:off x="2538360" y="966960"/>
                <a:ext cx="136440" cy="15372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>
                <a:off x="642960" y="1273320"/>
                <a:ext cx="13500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>
                <a:off x="642960" y="157968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642960" y="188604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642960" y="2190600"/>
                <a:ext cx="135000" cy="1540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642960" y="2496960"/>
                <a:ext cx="13500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>
                <a:off x="642960" y="280368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42960" y="311004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2763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92A-89A5-4F0E-ACD1-43B41A45D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Page 121 –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idades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ni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Hacer, S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have irregular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command forms that must be memorized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z, sé, 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¿Cómo se va a la escuela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Sal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de aquí y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continúa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derecho hasta el tercer semáfor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member that pronouns can be attached to command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will also need an accent in most cas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osefina, ¡haz</a:t>
            </a: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l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hora mismo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rtin, ay</a:t>
            </a: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ú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m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m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la verdad siemp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líca</a:t>
            </a: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l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 tu padre por qué llegaste tard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already know how to give affirmative commands to someone you address as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take the 3rd person form of the verb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amina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por la puert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m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la cen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br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 regal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 verbs have irregular affirmative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tú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 form many of these commands, take the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form of the present tense and drop the -g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6019920" y="5638680"/>
            <a:ext cx="236196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e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e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tene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ten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té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ci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ffirmative Tú Comma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ir (Infini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g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mand form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02:46:01Z</dcterms:created>
  <dc:creator>NIHS</dc:creator>
  <dc:description/>
  <dc:language>en-US</dc:language>
  <cp:lastModifiedBy>Windows User</cp:lastModifiedBy>
  <dcterms:modified xsi:type="dcterms:W3CDTF">2013-02-20T15:43:14Z</dcterms:modified>
  <cp:revision>5</cp:revision>
  <dc:subject/>
  <dc:title>No Slide Title</dc:title>
</cp:coreProperties>
</file>